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D9AB-5264-47BF-A831-CCC6C82A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3CA-3E88-4711-9B82-5CB89967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BDA7-E8CC-4B3F-80B5-71041B30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5F2-AC89-4D6D-9B98-AB2D0AF5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4AA-160C-467A-90B3-72F6ED96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6C8-835D-45D3-9D6E-4E185AA7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235-BF3B-4DF4-B242-69EF1164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293-F3C6-4DA6-AFB9-673C9A37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49A-1126-4E9A-B932-A4C7FA01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482-F272-4355-886A-A36EC181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28A-2FFF-4C86-8C23-FAA02F45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F854-1473-4570-A0A0-44AB9B53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8710-BA4E-490B-8DD4-7A5C35FA5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 Narrow"/>
              </a:rPr>
              <a:t>Memorial Acclam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him, in h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because of hi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affirm the Church’s fait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has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is ri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will come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04:57Z</dcterms:created>
  <dc:creator>Anon Anon</dc:creator>
  <dc:description/>
  <dc:language>en-US</dc:language>
  <cp:lastModifiedBy>Anon Anon</cp:lastModifiedBy>
  <dcterms:modified xsi:type="dcterms:W3CDTF">2005-08-09T05:09:48Z</dcterms:modified>
  <cp:revision>8</cp:revision>
  <dc:subject/>
  <dc:title>Memorial Acclamation (SLD-2)</dc:title>
</cp:coreProperties>
</file>